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73F1-D1B4-4C08-B365-AECB3117D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1238-8520-4D9E-AEEC-CF56FADC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tages to practitio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e-sized ch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do 5 days of study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masters leve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number of credits could potentially be used towards a masters 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be viewed as directly relevant to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tages to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C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masters leve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relevant to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tages to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a ‘taster’ for masters level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tudent already has a masters level qualification – might not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ay struggle with masters level writing – therefore a support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student fails to at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take funding away from initial ANP training or other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629-3DBB-4861-B678-3C81AEE8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83E-F40A-43B2-B399-C2D7B8B6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5D1-AFF8-4FEB-A03E-518BA5C6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943-B0DB-4D5B-863C-7E9A2FB2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BDB8-3D05-4CF7-BD81-EC8F00D0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1C2C-9D96-4BD3-BB50-FD14856F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DAC8-0ADA-45E6-B7A6-B73BFC2D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70D8-E4D6-4440-A048-08F5A5B9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0691-D902-4C61-9D03-9F421595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101F-9BEA-40DD-BDE9-9F285507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E338-63C4-4FF8-9713-66420431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DC4-00A2-4902-84D4-54E85A4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AB2-6944-4D9A-B1BE-4A8CABA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214A-5D7B-4119-B241-BF9E4EA1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D268-0356-46A5-A4B8-2E491545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A015-FE04-44E4-AAD1-F11DE587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BA22-6069-4F6D-97FF-4ABB0305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FE1-98FA-48CD-B6BD-39B58DF2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DE4-38E0-4CF5-971E-F599790C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B74-3AEE-46D8-B36C-BDA06395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85C-F1F0-452D-B3A7-3EE204C9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B2D-E93F-4C71-9FB9-134D44B3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46F-D77E-49C3-A44A-A582E92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4D4-1205-4EFB-BE1B-13005E86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E740-3E0D-4550-ABB6-E8CF6AE3B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AB34-C448-49F1-8C5C-64E8EF7C8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09480" y="1371600"/>
          <a:ext cx="659772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659772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176560" y="200808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3640" y="227664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1040" y="228600"/>
            <a:ext cx="70160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dvanced Practice: Achieving Consensu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A Toolkit Approach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5720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Mike Sab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Nursing Offic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CNO Direct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Scottish Gov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3236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4797360"/>
            <a:ext cx="21564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18900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5640" y="18900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1052640"/>
            <a:ext cx="720720" cy="36036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333360"/>
            <a:ext cx="5032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3236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1052640"/>
            <a:ext cx="647640" cy="576000"/>
          </a:xfrm>
          <a:prstGeom prst="upArrow">
            <a:avLst>
              <a:gd name="adj1" fmla="val 50000"/>
              <a:gd name="adj2" fmla="val 28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67280" y="1989000"/>
            <a:ext cx="36036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4797360"/>
            <a:ext cx="21564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600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19640" y="18900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18900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2205000"/>
            <a:ext cx="720720" cy="360360"/>
          </a:xfrm>
          <a:prstGeom prst="downArrow">
            <a:avLst>
              <a:gd name="adj1" fmla="val 37000"/>
              <a:gd name="adj2" fmla="val 4933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1052640"/>
            <a:ext cx="720720" cy="36036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32360" y="333360"/>
            <a:ext cx="5032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1052640"/>
            <a:ext cx="647640" cy="576000"/>
          </a:xfrm>
          <a:prstGeom prst="upArrow">
            <a:avLst>
              <a:gd name="adj1" fmla="val 50000"/>
              <a:gd name="adj2" fmla="val 28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7280" y="1989000"/>
            <a:ext cx="36036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1964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08720" y="4797360"/>
            <a:ext cx="21564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600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09480" y="1371600"/>
          <a:ext cx="659772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659772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176560" y="200808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27664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1040" y="228600"/>
            <a:ext cx="70160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dvanced Practice: Achieving Consensus</a:t>
            </a:r>
            <a:br>
              <a:rPr sz="2900"/>
            </a:b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A Toolkit Appro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45720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Mike Sab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Nursing Offic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CNO Direct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Scottish Govt</a:t>
            </a:r>
            <a:r>
              <a:rPr b="1" lang="en-US" sz="2200" spc="-1" strike="noStrike">
                <a:solidFill>
                  <a:srgbClr val="6699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sco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19640" y="580536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2205000"/>
            <a:ext cx="1513080" cy="2087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35640" y="1413000"/>
            <a:ext cx="1512720" cy="792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50864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35640" y="580536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2360" y="2565360"/>
            <a:ext cx="1511280" cy="144000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2565360"/>
            <a:ext cx="1512720" cy="1440000"/>
          </a:xfrm>
          <a:prstGeom prst="rect">
            <a:avLst/>
          </a:prstGeom>
          <a:solidFill>
            <a:srgbClr val="cc0099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9640" y="189000"/>
            <a:ext cx="1512720" cy="863640"/>
          </a:xfrm>
          <a:prstGeom prst="rect">
            <a:avLst/>
          </a:prstGeom>
          <a:solidFill>
            <a:srgbClr val="66c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35640" y="189000"/>
            <a:ext cx="151272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63640" y="4508640"/>
            <a:ext cx="1295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4653000"/>
            <a:ext cx="36180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03640" y="2997360"/>
            <a:ext cx="432000" cy="647640"/>
          </a:xfrm>
          <a:prstGeom prst="rightArrow">
            <a:avLst>
              <a:gd name="adj1" fmla="val 50000"/>
              <a:gd name="adj2" fmla="val 47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48360" y="2997360"/>
            <a:ext cx="505080" cy="647640"/>
          </a:xfrm>
          <a:prstGeom prst="rightArrow">
            <a:avLst>
              <a:gd name="adj1" fmla="val 50000"/>
              <a:gd name="adj2" fmla="val 4150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997360"/>
            <a:ext cx="4330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128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80000" y="5373720"/>
            <a:ext cx="720720" cy="43164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32360" y="5950080"/>
            <a:ext cx="503280" cy="647640"/>
          </a:xfrm>
          <a:prstGeom prst="rightArrow">
            <a:avLst>
              <a:gd name="adj1" fmla="val 50000"/>
              <a:gd name="adj2" fmla="val 442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96000" y="2205000"/>
            <a:ext cx="720720" cy="360360"/>
          </a:xfrm>
          <a:prstGeom prst="downArrow">
            <a:avLst>
              <a:gd name="adj1" fmla="val 37000"/>
              <a:gd name="adj2" fmla="val 4933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1052640"/>
            <a:ext cx="720720" cy="36036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33360"/>
            <a:ext cx="503280" cy="647640"/>
          </a:xfrm>
          <a:prstGeom prst="rightArrow">
            <a:avLst>
              <a:gd name="adj1" fmla="val 50000"/>
              <a:gd name="adj2" fmla="val 4432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4005360"/>
            <a:ext cx="576360" cy="1800000"/>
          </a:xfrm>
          <a:prstGeom prst="upArrow">
            <a:avLst>
              <a:gd name="adj1" fmla="val 49861"/>
              <a:gd name="adj2" fmla="val 515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4005360"/>
            <a:ext cx="720720" cy="503280"/>
          </a:xfrm>
          <a:prstGeom prst="downArrow">
            <a:avLst>
              <a:gd name="adj1" fmla="val 44907"/>
              <a:gd name="adj2" fmla="val 378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4360" y="1484280"/>
            <a:ext cx="2952720" cy="647640"/>
          </a:xfrm>
          <a:prstGeom prst="rightArrow">
            <a:avLst>
              <a:gd name="adj1" fmla="val 50000"/>
              <a:gd name="adj2" fmla="val 381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4360" y="1700280"/>
            <a:ext cx="358920" cy="865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3236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1341360"/>
            <a:ext cx="647640" cy="1224000"/>
          </a:xfrm>
          <a:prstGeom prst="upArrow">
            <a:avLst>
              <a:gd name="adj1" fmla="val 49861"/>
              <a:gd name="adj2" fmla="val 31166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476280"/>
            <a:ext cx="1871640" cy="86364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 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24360" y="1052640"/>
            <a:ext cx="647640" cy="576000"/>
          </a:xfrm>
          <a:prstGeom prst="upArrow">
            <a:avLst>
              <a:gd name="adj1" fmla="val 50000"/>
              <a:gd name="adj2" fmla="val 28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1989000"/>
            <a:ext cx="36036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1964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08720" y="4797360"/>
            <a:ext cx="21564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96000" y="4797360"/>
            <a:ext cx="216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0" y="0"/>
          <a:ext cx="9144000" cy="63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nsu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1523880"/>
          <a:ext cx="807732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07732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nsu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57200" y="1523880"/>
          <a:ext cx="807732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07732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395280" y="2276640"/>
            <a:ext cx="2160720" cy="2952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nsu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57200" y="1523880"/>
          <a:ext cx="807732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07732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6804000" y="3716280"/>
            <a:ext cx="1584360" cy="18734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vanced Practi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Practice, rather than a role or ti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ble across practice contex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ble across professional contex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ist’ practice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ve or below ‘Advanced’ practice – it is on a different continu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431520" y="3049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1600" y="28195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164000" y="281952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31880" y="56386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ice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2285640" y="2819520"/>
            <a:ext cx="4686480" cy="799920"/>
          </a:xfrm>
          <a:prstGeom prst="leftRightArrow">
            <a:avLst>
              <a:gd name="adj1" fmla="val 31250"/>
              <a:gd name="adj2" fmla="val 7358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09680" y="2819520"/>
            <a:ext cx="990720" cy="914400"/>
          </a:xfrm>
          <a:prstGeom prst="leftArrow">
            <a:avLst>
              <a:gd name="adj1" fmla="val 34722"/>
              <a:gd name="adj2" fmla="val 5434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6019560" y="2819520"/>
            <a:ext cx="990360" cy="914400"/>
          </a:xfrm>
          <a:prstGeom prst="leftArrow">
            <a:avLst>
              <a:gd name="adj1" fmla="val 34722"/>
              <a:gd name="adj2" fmla="val 5432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3124080"/>
            <a:ext cx="2286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4648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Key Themes &amp; Princip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cilitati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anced Clinic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nomous practi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Think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Levels of Decision Making &amp;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s-Base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0200" y="3808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 Profile &amp; KS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57200" y="1881360"/>
          <a:ext cx="80010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1360"/>
                    <a:ext cx="80010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10200" y="3808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 Profile &amp; KS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881360"/>
          <a:ext cx="80010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1360"/>
                    <a:ext cx="80010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2268360" y="3429000"/>
            <a:ext cx="3600720" cy="1152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en, Paul, Jean, Ros, Kathy &amp; UK MNC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garet Smith &amp; Scottish MN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Cooper, Maggie Grundy, Gillian Knowles, Caitrian Guthrie, Douglas Allan, Anne Campbell, Mairi Kellagher, Colette Ferguson, Janet Corcoran, Susan Aitkenhead, Katie Barnes, Michelle Mello, Donna Mead and many mor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e Barton and AAN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ose who’ve published, researched and developed in this area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SF Outlines/ Job Descriptors/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national job profile and KSF outline templates for ‘Advanced Nurse Practitioner’ r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will support consistency across contexts with ‘Exemplars’ for different clinical/operational contexts – Community, H@N, SC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al Health, Childre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6840" y="380880"/>
            <a:ext cx="55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y Analysis/Job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2120" y="1371600"/>
          <a:ext cx="739116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39116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Activity Analy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prototype data collection and analysis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to support training needs analysis and good governance regarding matching client need to service deliv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Profiling/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ed A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42920" y="189000"/>
            <a:ext cx="57704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y Analysi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ing ANP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5770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chmar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ional, Regional &amp;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ctivity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ational data, PANDORA or lo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Indicato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loyd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cMaster University APN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? Minimum clinical activity data set (Concept &amp; Indic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556000" cy="10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ype of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ucture, proces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268280"/>
            <a:ext cx="2556000" cy="7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dimens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 to be 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157720"/>
            <a:ext cx="255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4508640"/>
            <a:ext cx="25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and R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645000"/>
            <a:ext cx="25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 a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ec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852640"/>
            <a:ext cx="255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 cl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2205000"/>
            <a:ext cx="255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pecific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805360"/>
            <a:ext cx="25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497640"/>
            <a:ext cx="2556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71640" y="1052640"/>
            <a:ext cx="504720" cy="288720"/>
          </a:xfrm>
          <a:prstGeom prst="downArrow">
            <a:avLst>
              <a:gd name="adj1" fmla="val 42139"/>
              <a:gd name="adj2" fmla="val 445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2565360"/>
            <a:ext cx="504720" cy="289080"/>
          </a:xfrm>
          <a:prstGeom prst="downArrow">
            <a:avLst>
              <a:gd name="adj1" fmla="val 49685"/>
              <a:gd name="adj2" fmla="val 41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3429000"/>
            <a:ext cx="504720" cy="289080"/>
          </a:xfrm>
          <a:prstGeom prst="downArrow">
            <a:avLst>
              <a:gd name="adj1" fmla="val 53463"/>
              <a:gd name="adj2" fmla="val 445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71640" y="4221000"/>
            <a:ext cx="504720" cy="289080"/>
          </a:xfrm>
          <a:prstGeom prst="downArrow">
            <a:avLst>
              <a:gd name="adj1" fmla="val 45907"/>
              <a:gd name="adj2" fmla="val 379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4869000"/>
            <a:ext cx="504720" cy="288720"/>
          </a:xfrm>
          <a:prstGeom prst="downArrow">
            <a:avLst>
              <a:gd name="adj1" fmla="val 49685"/>
              <a:gd name="adj2" fmla="val 41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71640" y="5516640"/>
            <a:ext cx="504720" cy="288720"/>
          </a:xfrm>
          <a:prstGeom prst="downArrow">
            <a:avLst>
              <a:gd name="adj1" fmla="val 49685"/>
              <a:gd name="adj2" fmla="val 445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71640" y="6165720"/>
            <a:ext cx="504720" cy="289080"/>
          </a:xfrm>
          <a:prstGeom prst="downArrow">
            <a:avLst>
              <a:gd name="adj1" fmla="val 53463"/>
              <a:gd name="adj2" fmla="val 379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1916280"/>
            <a:ext cx="504720" cy="288720"/>
          </a:xfrm>
          <a:prstGeom prst="downArrow">
            <a:avLst>
              <a:gd name="adj1" fmla="val 34593"/>
              <a:gd name="adj2" fmla="val 41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1720" y="380880"/>
            <a:ext cx="53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Framework/D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838080" y="1371600"/>
          <a:ext cx="746784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46784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Educational Frame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development requires Development Needs Analysis and educationa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across the sector regarding Masters level and ‘core’ and context specific’ requirements for  Advanced Practice development programm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HS Education for Scotland ‘Advanced Practice Succession Planning Pathway’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acknowledges existing education provision and the value of work-based learning and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HEI - Electronic Profor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 and links to agenda (25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ced Clinical Practice focused programmes - MSc,PgD, Pg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 module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ership/Management focused cour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focused courses – MPhil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focused courses - PgCert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gnition of Pri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SF, AP Competencies and other relevant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Download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ct Details and emai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ping outcomes from educational provision to AP competenci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Is map their programmes/courses against the Core &amp; Specific AP compet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actitioners access web page and select their role profile and the courses they have undertaken from a pre-populated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ir AP profile/competency list is populated with the matched educational outcomes from the courses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ssing’ competencies are identified so that practitioner/manager can arrange appropriate provision or seek other evidence of achiev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On going competence review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sters level – CPD 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demonstrate Masters level thinking/pract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Is and Service could develop limited credit Masters level CPD un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available to individuals who have completed their initial ANP preparation, achieved competencies and have attained the minimum of a De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tages to Practitio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tages to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tages to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56480" y="38088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force Planning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762120" y="1447920"/>
          <a:ext cx="73152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3152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00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Workload/ Workforce Analy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Need – Service Design – Skill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/Workload Planning tools for robust and standardised measures that support the efficient targeting of nursing resources towards areas of need - beyond merely ‘numbers of nurses’ towards determination of skill mi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National Workforce Proje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Six-steps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force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33160" y="4572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ory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09480" y="1523880"/>
          <a:ext cx="7620120" cy="43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62012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Regulatory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that the regulatory position of advanced level practice roles is fully linked to devolved and UK-wide governance principles, processes and respon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P regulation is co-dependent on many other aspects of the White Paper and linked to the NMC’s  work on revalidation and establishing a robust system for how practitioners demonstrate continued fitness for practice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mmon definition of ‘Advanced Practice’ across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11280" y="5013360"/>
            <a:ext cx="403200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Worker – 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1280" y="270828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Practitioner – 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3284640"/>
            <a:ext cx="4032000" cy="57600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ssistant Practitioner – 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386064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66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ior Support Worker – 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1280" y="443700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upport Worker - 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1280" y="40464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Senior Staff – level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1280" y="98100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sultant Practitioner – level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1280" y="1557360"/>
            <a:ext cx="4032000" cy="576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Practitioner – level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1280" y="2133720"/>
            <a:ext cx="4032000" cy="57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enior Practitioner – level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09760" y="1773360"/>
            <a:ext cx="1197360" cy="642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CN/CQ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00720" y="1413000"/>
            <a:ext cx="1295640" cy="916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67640" y="2349360"/>
            <a:ext cx="1297080" cy="1006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cc"/>
                </a:solidFill>
                <a:latin typeface="Arial"/>
              </a:rPr>
              <a:t>Ear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cc"/>
                </a:solidFill>
                <a:latin typeface="Arial"/>
              </a:rPr>
              <a:t>Clinical Career Fellowshi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83560" y="981000"/>
            <a:ext cx="2402640" cy="368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Consultant NMAH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67640" y="981000"/>
            <a:ext cx="1225440" cy="8240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nic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are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643280" y="3213000"/>
            <a:ext cx="865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642920" y="2997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64292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643280" y="1700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643280" y="119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643280" y="249228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7740720" y="184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16000" y="692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38800" y="5791320"/>
            <a:ext cx="67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ttish initiatives to support the Nursing Career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2565360"/>
            <a:ext cx="2160720" cy="337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ive Practitioner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2920" y="270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740720" y="692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08720" y="3068640"/>
            <a:ext cx="1800000" cy="3373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ying Start N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93960" y="228600"/>
            <a:ext cx="3533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93960" y="228600"/>
            <a:ext cx="3533760" cy="6400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15280" y="522936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d it… and they will c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vanced Practi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 good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now we’ve got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velop/suppor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evidenc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466704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ww.advancedpractice.scot.nhs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2565360"/>
            <a:ext cx="107964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2565360"/>
            <a:ext cx="1295640" cy="1440000"/>
          </a:xfrm>
          <a:prstGeom prst="rect">
            <a:avLst/>
          </a:prstGeom>
          <a:solidFill>
            <a:srgbClr val="996666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ll-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2997360"/>
            <a:ext cx="504720" cy="647640"/>
          </a:xfrm>
          <a:prstGeom prst="rightArrow">
            <a:avLst>
              <a:gd name="adj1" fmla="val 50000"/>
              <a:gd name="adj2" fmla="val 38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1:42:05Z</dcterms:created>
  <dc:creator>sln330130</dc:creator>
  <dc:description/>
  <dc:language>en-US</dc:language>
  <cp:lastModifiedBy>z332057</cp:lastModifiedBy>
  <dcterms:modified xsi:type="dcterms:W3CDTF">2009-02-26T22:44:48Z</dcterms:modified>
  <cp:revision>28</cp:revision>
  <dc:subject/>
  <dc:title>Advanced Practice</dc:title>
</cp:coreProperties>
</file>